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jep_dailydoub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B26-B25C-403D-91B2-D782662E10A2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8C9-A6A6-41E3-A026-54ECCE9E09B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AF5A-F053-474B-BD21-D5C94C4765C8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BB8-885B-45B4-8B93-B9BDE898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2A7-D928-4129-AB3E-7E74723F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B2C-600B-4942-A65A-F60098A3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3F4-B883-4B18-A3B6-70774A64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68B5-59F7-48AE-9B04-D220D4CF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DB9A-DFAE-4316-AC27-F6A7E706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A2A3-CC45-4069-8803-8E9CC573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8182-D759-4CAB-8650-2735E29B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84BE-0553-4414-A6D9-68C7773F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A66F-C573-4EE0-9EE5-DF6B52D6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1075-4138-4580-964B-9D16D26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60F-6F6D-42FA-A4B5-90A8BB94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BFD-3DE4-4D00-8C63-ED006EEA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8579-166D-4D63-9FA5-C3014689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1ACD-7C31-48F4-9AB9-C6C7C903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F84B-1B0C-44A7-AF11-D64D134A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FBE9-53AB-4E45-96DC-9B6AC87E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D23-14FD-4CEB-947F-515C1324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461-0BF0-4BFE-9233-B2D3025A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D8A-65B6-4EEB-AB57-77CFBF9A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8EC-7C60-4A88-B557-D83F4606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722-4DD6-4FD3-8B2B-5714E040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D4D-696D-49AA-869E-2BA696AA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02B-ABAE-424D-898A-59527C1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D43B-D0C8-4A24-95CB-987A207F2245}" type="slidenum"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D83E-89A3-4C14-8FFE-14185506B61E}" type="slidenum"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"/><Relationship Id="rId7" Type="http://schemas.openxmlformats.org/officeDocument/2006/relationships/slide" Target="slide8.xml"/><Relationship Id="rId8" Type="http://schemas.openxmlformats.org/officeDocument/2006/relationships/slide" Target=""/><Relationship Id="rId9" Type="http://schemas.openxmlformats.org/officeDocument/2006/relationships/slide" Target="slide12.xml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6.xml"/><Relationship Id="rId14" Type="http://schemas.openxmlformats.org/officeDocument/2006/relationships/slide" Target="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" Target="slide22.xml"/><Relationship Id="rId18" Type="http://schemas.openxmlformats.org/officeDocument/2006/relationships/slide" Target=""/><Relationship Id="rId19" Type="http://schemas.openxmlformats.org/officeDocument/2006/relationships/slide" Target="slide24.xml"/><Relationship Id="rId20" Type="http://schemas.openxmlformats.org/officeDocument/2006/relationships/slide" Target="slide26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p_dailydoub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89">
            <a:hlinkClick r:id="rId2" action="ppaction://hlinksldjump"/>
          </p:cNvPr>
          <p:cNvSpPr/>
          <p:nvPr/>
        </p:nvSpPr>
        <p:spPr>
          <a:xfrm>
            <a:off x="685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3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90">
            <a:hlinkClick r:id="rId4" action="ppaction://hlinksldjump"/>
          </p:cNvPr>
          <p:cNvSpPr/>
          <p:nvPr/>
        </p:nvSpPr>
        <p:spPr>
          <a:xfrm>
            <a:off x="685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5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91">
            <a:hlinkClick r:id="rId6" action="ppaction://hlinksldjump"/>
          </p:cNvPr>
          <p:cNvSpPr/>
          <p:nvPr/>
        </p:nvSpPr>
        <p:spPr>
          <a:xfrm>
            <a:off x="685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7" action="ppaction://hlinksldjump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101">
            <a:hlinkClick r:id="rId8" action="ppaction://hlinksldjump"/>
          </p:cNvPr>
          <p:cNvSpPr/>
          <p:nvPr/>
        </p:nvSpPr>
        <p:spPr>
          <a:xfrm>
            <a:off x="2514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102">
            <a:hlinkClick r:id="rId10" action="ppaction://hlinksldjump"/>
          </p:cNvPr>
          <p:cNvSpPr/>
          <p:nvPr/>
        </p:nvSpPr>
        <p:spPr>
          <a:xfrm>
            <a:off x="2514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103">
            <a:hlinkClick r:id="rId12" action="ppaction://hlinksldjump"/>
          </p:cNvPr>
          <p:cNvSpPr/>
          <p:nvPr/>
        </p:nvSpPr>
        <p:spPr>
          <a:xfrm>
            <a:off x="2514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104">
            <a:hlinkClick r:id="rId14" action="ppaction://hlinksldjump"/>
          </p:cNvPr>
          <p:cNvSpPr/>
          <p:nvPr/>
        </p:nvSpPr>
        <p:spPr>
          <a:xfrm>
            <a:off x="2514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06">
            <a:hlinkClick r:id="rId16" action="ppaction://hlinksldjump"/>
          </p:cNvPr>
          <p:cNvSpPr/>
          <p:nvPr/>
        </p:nvSpPr>
        <p:spPr>
          <a:xfrm>
            <a:off x="4343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07">
            <a:hlinkClick r:id="rId18" action="ppaction://hlinksldjump"/>
          </p:cNvPr>
          <p:cNvSpPr/>
          <p:nvPr/>
        </p:nvSpPr>
        <p:spPr>
          <a:xfrm>
            <a:off x="4343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08"/>
          <p:cNvSpPr/>
          <p:nvPr/>
        </p:nvSpPr>
        <p:spPr>
          <a:xfrm>
            <a:off x="4343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09"/>
          <p:cNvSpPr/>
          <p:nvPr/>
        </p:nvSpPr>
        <p:spPr>
          <a:xfrm>
            <a:off x="4343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16"/>
          <p:cNvSpPr/>
          <p:nvPr/>
        </p:nvSpPr>
        <p:spPr>
          <a:xfrm>
            <a:off x="6172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17"/>
          <p:cNvSpPr/>
          <p:nvPr/>
        </p:nvSpPr>
        <p:spPr>
          <a:xfrm>
            <a:off x="6172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18"/>
          <p:cNvSpPr/>
          <p:nvPr/>
        </p:nvSpPr>
        <p:spPr>
          <a:xfrm>
            <a:off x="6172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19"/>
          <p:cNvSpPr/>
          <p:nvPr/>
        </p:nvSpPr>
        <p:spPr>
          <a:xfrm>
            <a:off x="6172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40"/>
          <p:cNvSpPr/>
          <p:nvPr/>
        </p:nvSpPr>
        <p:spPr>
          <a:xfrm>
            <a:off x="685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8"/>
          <p:cNvSpPr/>
          <p:nvPr/>
        </p:nvSpPr>
        <p:spPr>
          <a:xfrm>
            <a:off x="685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2514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4343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00"/>
          <p:cNvSpPr/>
          <p:nvPr/>
        </p:nvSpPr>
        <p:spPr>
          <a:xfrm>
            <a:off x="6172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47920" y="24591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ocument that ended the wa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3520" y="173196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is the Treaty of Paris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14400" y="9144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04920" y="1384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’m the King of Great Britain?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920" y="1885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o is King George III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2357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Convention that voted on Independence?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371600" y="666720"/>
            <a:ext cx="6781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at is the Second Continental Congress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19724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e’re the countries that defended America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0" y="2355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o are Spain, France, Netherlands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5027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erson defected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1447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57200" y="155016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 was the slogan used throughout the war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784800"/>
            <a:ext cx="670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is Taxation without Representation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57200" y="2367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’m a person that defended America’s independenc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838080" y="191736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o is a Patriot?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1793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Rode through Boston warning of British invasion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80880" y="147744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Paul Revere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85800" y="220896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 resigned my post while in Philadelphia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jep_dailydoubl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066680" y="231840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William Howe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62120" y="1428480"/>
            <a:ext cx="792468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Benedict Arnold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295280" y="221832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I had the bigger naval fleet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80880" y="230112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Who was the British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0" y="1361160"/>
            <a:ext cx="939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battle happened Christmas night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80880" y="31543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Battle of Trento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447920" y="1491120"/>
            <a:ext cx="624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battle’s name involves a neighboring landmark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85800" y="685440"/>
            <a:ext cx="75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What is the Battle of Bunker Hill aka Breed’s Hill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43000" y="95544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is was the first military engagement of the war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6087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are the Battles of Lexington and Concord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4"/>
          <p:cNvSpPr/>
          <p:nvPr/>
        </p:nvSpPr>
        <p:spPr>
          <a:xfrm>
            <a:off x="0" y="1926360"/>
            <a:ext cx="866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Times New Roman"/>
              </a:rPr>
              <a:t>Percentage tax on tea</a:t>
            </a:r>
            <a:endParaRPr b="1" lang="en-US" sz="7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62120" y="190800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at is 10%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09480" y="242676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ames of colonists who defended the Crown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14400" y="245844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yalist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259776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f the document signed at beginning of wa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21873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Declaration of Independence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6:48:29Z</dcterms:created>
  <dc:creator>Grant County High School</dc:creator>
  <dc:description/>
  <dc:language>en-US</dc:language>
  <cp:lastModifiedBy>Michael Saks</cp:lastModifiedBy>
  <dcterms:modified xsi:type="dcterms:W3CDTF">2012-11-28T19:19:36Z</dcterms:modified>
  <cp:revision>83</cp:revision>
  <dc:subject/>
  <dc:title>No Slide Title</dc:title>
</cp:coreProperties>
</file>