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jep_dailydoub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093A-0846-4C75-8CEE-318E35BC2ABE}" type="datetime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3C58-9DF5-4BDA-9395-C3A11B7943D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03C4-CEB3-44DF-9024-E9521CA2104E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E3C4-BC3E-4FC0-80AD-40285983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22AE-F303-4D33-BBFA-F726FD48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3E9F-00D1-4D23-AE64-D8312FC4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CEE4-442F-4ED5-A286-C09E4233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533E-3A44-47CD-8B3D-68F79D55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3782-D2C2-4FB1-8DA6-E285187E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B065-3093-4A9F-9787-2A82AE8A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66FC-457C-49F7-9FF8-7573CD1C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68CA-57D9-4822-A08A-4730D6A5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FC5B-054D-4CB5-83F9-60EA7BE0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E85A-5A11-485A-81C0-2DCD12AB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5E5-1E8C-428B-904E-8579792A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2F07-653C-4930-8D8A-38F69ED0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C776-CF5B-41F7-80E8-BFBC6930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BDEE-61F0-433C-8743-BD69228A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ECEB-07E9-4D2F-8FC6-6C8963D4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F6A5-C8BB-44A7-97C5-E066311E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7C7F-5A3A-4356-8BCB-AF30F834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C87-1D9A-4923-849E-BE266B48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F75F-1530-47C3-BF9E-399162F5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5E31-24CE-450F-8171-32DCB00D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5441-6F70-490C-AC3A-6C344AF6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738E-6F2B-4160-857B-8E289F80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B66-11A3-4C97-A475-EDECAC5F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5B2A-B7DF-4B89-8D11-4562EDB75C2D}" type="slidenum">
              <a:rPr b="1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4D2A-66F4-474C-ACF6-977734B1244E}" type="slidenum">
              <a:rPr b="1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"/><Relationship Id="rId5" Type="http://schemas.openxmlformats.org/officeDocument/2006/relationships/slide" Target="slide6.xml"/><Relationship Id="rId6" Type="http://schemas.openxmlformats.org/officeDocument/2006/relationships/slide" Target=""/><Relationship Id="rId7" Type="http://schemas.openxmlformats.org/officeDocument/2006/relationships/slide" Target="slide8.xml"/><Relationship Id="rId8" Type="http://schemas.openxmlformats.org/officeDocument/2006/relationships/slide" Target=""/><Relationship Id="rId9" Type="http://schemas.openxmlformats.org/officeDocument/2006/relationships/slide" Target="slide12.xml"/><Relationship Id="rId10" Type="http://schemas.openxmlformats.org/officeDocument/2006/relationships/slide" Target=""/><Relationship Id="rId11" Type="http://schemas.openxmlformats.org/officeDocument/2006/relationships/slide" Target="slide14.xml"/><Relationship Id="rId12" Type="http://schemas.openxmlformats.org/officeDocument/2006/relationships/slide" Target=""/><Relationship Id="rId13" Type="http://schemas.openxmlformats.org/officeDocument/2006/relationships/slide" Target="slide16.xml"/><Relationship Id="rId14" Type="http://schemas.openxmlformats.org/officeDocument/2006/relationships/slide" Target=""/><Relationship Id="rId15" Type="http://schemas.openxmlformats.org/officeDocument/2006/relationships/slide" Target="slide18.xml"/><Relationship Id="rId16" Type="http://schemas.openxmlformats.org/officeDocument/2006/relationships/slide" Target=""/><Relationship Id="rId17" Type="http://schemas.openxmlformats.org/officeDocument/2006/relationships/slide" Target="slide22.xml"/><Relationship Id="rId18" Type="http://schemas.openxmlformats.org/officeDocument/2006/relationships/slide" Target=""/><Relationship Id="rId19" Type="http://schemas.openxmlformats.org/officeDocument/2006/relationships/slide" Target="slide24.xml"/><Relationship Id="rId20" Type="http://schemas.openxmlformats.org/officeDocument/2006/relationships/slide" Target="slide26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ep_dailydoubl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89">
            <a:hlinkClick r:id="rId2" action="ppaction://hlinksldjump"/>
          </p:cNvPr>
          <p:cNvSpPr/>
          <p:nvPr/>
        </p:nvSpPr>
        <p:spPr>
          <a:xfrm>
            <a:off x="685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Garamond"/>
                <a:hlinkClick r:id="rId3" action="ppaction://hlinksldjump"/>
              </a:rPr>
              <a:t>2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90">
            <a:hlinkClick r:id="rId4" action="ppaction://hlinksldjump"/>
          </p:cNvPr>
          <p:cNvSpPr/>
          <p:nvPr/>
        </p:nvSpPr>
        <p:spPr>
          <a:xfrm>
            <a:off x="685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Garamond"/>
                <a:hlinkClick r:id="rId5" action="ppaction://hlinksldjump"/>
              </a:rPr>
              <a:t>3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91">
            <a:hlinkClick r:id="rId6" action="ppaction://hlinksldjump"/>
          </p:cNvPr>
          <p:cNvSpPr/>
          <p:nvPr/>
        </p:nvSpPr>
        <p:spPr>
          <a:xfrm>
            <a:off x="685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Garamond"/>
                <a:hlinkClick r:id="rId7" action="ppaction://hlinksldjump"/>
              </a:rPr>
              <a:t>4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101">
            <a:hlinkClick r:id="rId8" action="ppaction://hlinksldjump"/>
          </p:cNvPr>
          <p:cNvSpPr/>
          <p:nvPr/>
        </p:nvSpPr>
        <p:spPr>
          <a:xfrm>
            <a:off x="2514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Garamond"/>
                <a:hlinkClick r:id="rId9" action="ppaction://hlinksldjump"/>
              </a:rPr>
              <a:t>1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AutoShape 102">
            <a:hlinkClick r:id="rId10" action="ppaction://hlinksldjump"/>
          </p:cNvPr>
          <p:cNvSpPr/>
          <p:nvPr/>
        </p:nvSpPr>
        <p:spPr>
          <a:xfrm>
            <a:off x="2514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hlinkClick r:id="rId11" action="ppaction://hlinksldjump"/>
              </a:rPr>
              <a:t>2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AutoShape 103">
            <a:hlinkClick r:id="rId12" action="ppaction://hlinksldjump"/>
          </p:cNvPr>
          <p:cNvSpPr/>
          <p:nvPr/>
        </p:nvSpPr>
        <p:spPr>
          <a:xfrm>
            <a:off x="2514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Garamond"/>
                <a:hlinkClick r:id="rId13" action="ppaction://hlinksldjump"/>
              </a:rPr>
              <a:t>3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AutoShape 104">
            <a:hlinkClick r:id="rId14" action="ppaction://hlinksldjump"/>
          </p:cNvPr>
          <p:cNvSpPr/>
          <p:nvPr/>
        </p:nvSpPr>
        <p:spPr>
          <a:xfrm>
            <a:off x="2514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hlinkClick r:id="rId15" action="ppaction://hlinksldjump"/>
              </a:rPr>
              <a:t>4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106">
            <a:hlinkClick r:id="rId16" action="ppaction://hlinksldjump"/>
          </p:cNvPr>
          <p:cNvSpPr/>
          <p:nvPr/>
        </p:nvSpPr>
        <p:spPr>
          <a:xfrm>
            <a:off x="4343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hlinkClick r:id="rId17" action="ppaction://hlinksldjump"/>
              </a:rPr>
              <a:t>1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107">
            <a:hlinkClick r:id="rId18" action="ppaction://hlinksldjump"/>
          </p:cNvPr>
          <p:cNvSpPr/>
          <p:nvPr/>
        </p:nvSpPr>
        <p:spPr>
          <a:xfrm>
            <a:off x="4343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hlinkClick r:id="rId19" action="ppaction://hlinksldjump"/>
              </a:rPr>
              <a:t>2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08"/>
          <p:cNvSpPr/>
          <p:nvPr/>
        </p:nvSpPr>
        <p:spPr>
          <a:xfrm>
            <a:off x="4343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hlinkClick r:id="rId20" action="ppaction://hlinksldjump"/>
              </a:rPr>
              <a:t>3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AutoShape 109"/>
          <p:cNvSpPr/>
          <p:nvPr/>
        </p:nvSpPr>
        <p:spPr>
          <a:xfrm>
            <a:off x="4343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116"/>
          <p:cNvSpPr/>
          <p:nvPr/>
        </p:nvSpPr>
        <p:spPr>
          <a:xfrm>
            <a:off x="6172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AutoShape 117"/>
          <p:cNvSpPr/>
          <p:nvPr/>
        </p:nvSpPr>
        <p:spPr>
          <a:xfrm>
            <a:off x="6172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118"/>
          <p:cNvSpPr/>
          <p:nvPr/>
        </p:nvSpPr>
        <p:spPr>
          <a:xfrm>
            <a:off x="6172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119"/>
          <p:cNvSpPr/>
          <p:nvPr/>
        </p:nvSpPr>
        <p:spPr>
          <a:xfrm>
            <a:off x="6172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AutoShape 40"/>
          <p:cNvSpPr/>
          <p:nvPr/>
        </p:nvSpPr>
        <p:spPr>
          <a:xfrm>
            <a:off x="685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10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58"/>
          <p:cNvSpPr/>
          <p:nvPr/>
        </p:nvSpPr>
        <p:spPr>
          <a:xfrm>
            <a:off x="685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932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sc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97"/>
          <p:cNvSpPr/>
          <p:nvPr/>
        </p:nvSpPr>
        <p:spPr>
          <a:xfrm>
            <a:off x="2514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932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s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98"/>
          <p:cNvSpPr/>
          <p:nvPr/>
        </p:nvSpPr>
        <p:spPr>
          <a:xfrm>
            <a:off x="4343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932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sc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00"/>
          <p:cNvSpPr/>
          <p:nvPr/>
        </p:nvSpPr>
        <p:spPr>
          <a:xfrm>
            <a:off x="6172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attle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447920" y="245916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ocument that ended the war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33520" y="173196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What is the Treaty of Paris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914400" y="9144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04920" y="13842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I’m the King of Great Britain?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04920" y="1885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o is King George III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0" y="2357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Convention that voted on Independence?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371600" y="666720"/>
            <a:ext cx="67816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What is the Second Continental Congress?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19724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We’re the countries that defended America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0" y="23551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Who are Spain, France, Netherlands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25027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person defected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600200" y="144792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457200" y="155016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 was the slogan used throughout the war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447920" y="784800"/>
            <a:ext cx="6705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What is Taxation without Representation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457200" y="23670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’m a person that defended America’s independence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838080" y="191736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o is a Patriot?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0" y="17938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Rode through Boston warning of British invasion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80880" y="1477440"/>
            <a:ext cx="815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Who is Paul Revere?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85800" y="220896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I resigned my post while in Philadelphia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jep_dailydoubl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1066680" y="2318400"/>
            <a:ext cx="7162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Who is William Howe?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62120" y="1428480"/>
            <a:ext cx="792468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Who is Benedict Arnold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295280" y="2218320"/>
            <a:ext cx="6248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I had the bigger naval fleet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380880" y="2301120"/>
            <a:ext cx="838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Who was the British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0" y="1361160"/>
            <a:ext cx="939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is battle happened Christmas night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380880" y="315432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Battle of Trenton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447920" y="1491120"/>
            <a:ext cx="6248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is battle’s name involves a neighboring landmark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85800" y="685440"/>
            <a:ext cx="7543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What is the Battle of Bunker Hill aka Breed’s Hill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143000" y="95544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This was the first military engagement of the war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0" y="6087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What are the Battles of Lexington and Concord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Object 13"/>
          <p:cNvGraphicFramePr/>
          <p:nvPr/>
        </p:nvGraphicFramePr>
        <p:xfrm>
          <a:off x="1523880" y="1395360"/>
          <a:ext cx="6097680" cy="40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536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4"/>
          <p:cNvSpPr/>
          <p:nvPr/>
        </p:nvSpPr>
        <p:spPr>
          <a:xfrm>
            <a:off x="0" y="1926360"/>
            <a:ext cx="8669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Times New Roman"/>
              </a:rPr>
              <a:t>Percentage tax on tea</a:t>
            </a:r>
            <a:endParaRPr b="1" lang="en-US" sz="7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762120" y="1908000"/>
            <a:ext cx="79246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hat is 10%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609480" y="2426760"/>
            <a:ext cx="769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ames of colonists who defended the Crown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914400" y="245844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yalists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04920" y="259776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of the document signed at beginning of war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57200" y="218736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Declaration of Independence?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6:48:29Z</dcterms:created>
  <dc:creator>Grant County High School</dc:creator>
  <dc:description/>
  <dc:language>en-US</dc:language>
  <cp:lastModifiedBy>Michael Saks</cp:lastModifiedBy>
  <dcterms:modified xsi:type="dcterms:W3CDTF">2012-11-28T19:19:36Z</dcterms:modified>
  <cp:revision>83</cp:revision>
  <dc:subject/>
  <dc:title>No Slide Title</dc:title>
</cp:coreProperties>
</file>