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jep_dailydoub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A069-338A-4E20-9880-819ADC66A4E5}" type="datetime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B7C8-510F-4615-A663-27E9C24717B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946B-57A0-411A-9B00-656B33C7220F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5DC-7AE1-4C01-BB6F-E1FEC2B9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92D-752C-4F21-95C0-EE427322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EF9-F1E4-4D55-A013-EDEEFCD4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58A-4D6A-4CB0-A4EA-F28439B7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C705-2B06-4137-AD1B-78B52AA3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C131-566E-4A1C-BB13-C86879F5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7ADF-47AF-40FC-9DFF-885F724A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C44E-82B9-4ECC-BD5B-40217205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BCC1-DC91-4A7B-8426-96F506FD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8A1C-D638-4F7F-952A-632BE648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8913-2A37-4B6A-A99A-B834FB53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085-B845-4B70-A23C-5AF22D13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55B9-5AB6-400A-AD50-A41D9290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F293-A6B1-4EAD-B6BC-C96695B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124D-3E0C-425A-8AC7-7B214704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A238-86FA-4139-BA8B-ED111DD6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C950-72E1-457D-8DE6-0350866A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91F-8732-428C-B3BA-43B6EA12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615-5BA1-4965-A660-F805C41B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C3E-C748-45FB-8C9A-1D486D83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1AC-6137-4C3A-98FB-BAED5BC2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1FA-9D55-4FBF-982C-B69B9C01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F34-1860-4D4D-A71B-355D1F3C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5C5-0DCA-4705-9E25-B19A673C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A2F2-C194-4B5F-B049-B9C658E6F006}" type="slidenum">
              <a:rPr b="1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3D08-2D62-450C-9D52-287BD2AE28A2}" type="slidenum">
              <a:rPr b="1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"/><Relationship Id="rId7" Type="http://schemas.openxmlformats.org/officeDocument/2006/relationships/slide" Target="slide8.xml"/><Relationship Id="rId8" Type="http://schemas.openxmlformats.org/officeDocument/2006/relationships/slide" Target=""/><Relationship Id="rId9" Type="http://schemas.openxmlformats.org/officeDocument/2006/relationships/slide" Target="slide12.xml"/><Relationship Id="rId10" Type="http://schemas.openxmlformats.org/officeDocument/2006/relationships/slide" Target="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slide" Target="slide16.xml"/><Relationship Id="rId14" Type="http://schemas.openxmlformats.org/officeDocument/2006/relationships/slide" Target=""/><Relationship Id="rId15" Type="http://schemas.openxmlformats.org/officeDocument/2006/relationships/slide" Target="slide18.xml"/><Relationship Id="rId16" Type="http://schemas.openxmlformats.org/officeDocument/2006/relationships/slide" Target=""/><Relationship Id="rId17" Type="http://schemas.openxmlformats.org/officeDocument/2006/relationships/slide" Target="slide22.xml"/><Relationship Id="rId18" Type="http://schemas.openxmlformats.org/officeDocument/2006/relationships/slide" Target=""/><Relationship Id="rId19" Type="http://schemas.openxmlformats.org/officeDocument/2006/relationships/slide" Target="slide24.xml"/><Relationship Id="rId20" Type="http://schemas.openxmlformats.org/officeDocument/2006/relationships/slide" Target="slide26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p_dailydoubl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89">
            <a:hlinkClick r:id="rId2" action="ppaction://hlinksldjump"/>
          </p:cNvPr>
          <p:cNvSpPr/>
          <p:nvPr/>
        </p:nvSpPr>
        <p:spPr>
          <a:xfrm>
            <a:off x="685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3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90">
            <a:hlinkClick r:id="rId4" action="ppaction://hlinksldjump"/>
          </p:cNvPr>
          <p:cNvSpPr/>
          <p:nvPr/>
        </p:nvSpPr>
        <p:spPr>
          <a:xfrm>
            <a:off x="685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5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91">
            <a:hlinkClick r:id="rId6" action="ppaction://hlinksldjump"/>
          </p:cNvPr>
          <p:cNvSpPr/>
          <p:nvPr/>
        </p:nvSpPr>
        <p:spPr>
          <a:xfrm>
            <a:off x="685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7" action="ppaction://hlinksldjump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101">
            <a:hlinkClick r:id="rId8" action="ppaction://hlinksldjump"/>
          </p:cNvPr>
          <p:cNvSpPr/>
          <p:nvPr/>
        </p:nvSpPr>
        <p:spPr>
          <a:xfrm>
            <a:off x="2514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9" action="ppaction://hlinksldjump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102">
            <a:hlinkClick r:id="rId10" action="ppaction://hlinksldjump"/>
          </p:cNvPr>
          <p:cNvSpPr/>
          <p:nvPr/>
        </p:nvSpPr>
        <p:spPr>
          <a:xfrm>
            <a:off x="2514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103">
            <a:hlinkClick r:id="rId12" action="ppaction://hlinksldjump"/>
          </p:cNvPr>
          <p:cNvSpPr/>
          <p:nvPr/>
        </p:nvSpPr>
        <p:spPr>
          <a:xfrm>
            <a:off x="2514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13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104">
            <a:hlinkClick r:id="rId14" action="ppaction://hlinksldjump"/>
          </p:cNvPr>
          <p:cNvSpPr/>
          <p:nvPr/>
        </p:nvSpPr>
        <p:spPr>
          <a:xfrm>
            <a:off x="2514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106">
            <a:hlinkClick r:id="rId16" action="ppaction://hlinksldjump"/>
          </p:cNvPr>
          <p:cNvSpPr/>
          <p:nvPr/>
        </p:nvSpPr>
        <p:spPr>
          <a:xfrm>
            <a:off x="4343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7" action="ppaction://hlinksldjump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07">
            <a:hlinkClick r:id="rId18" action="ppaction://hlinksldjump"/>
          </p:cNvPr>
          <p:cNvSpPr/>
          <p:nvPr/>
        </p:nvSpPr>
        <p:spPr>
          <a:xfrm>
            <a:off x="4343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08"/>
          <p:cNvSpPr/>
          <p:nvPr/>
        </p:nvSpPr>
        <p:spPr>
          <a:xfrm>
            <a:off x="4343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20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09"/>
          <p:cNvSpPr/>
          <p:nvPr/>
        </p:nvSpPr>
        <p:spPr>
          <a:xfrm>
            <a:off x="4343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16"/>
          <p:cNvSpPr/>
          <p:nvPr/>
        </p:nvSpPr>
        <p:spPr>
          <a:xfrm>
            <a:off x="6172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17"/>
          <p:cNvSpPr/>
          <p:nvPr/>
        </p:nvSpPr>
        <p:spPr>
          <a:xfrm>
            <a:off x="6172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18"/>
          <p:cNvSpPr/>
          <p:nvPr/>
        </p:nvSpPr>
        <p:spPr>
          <a:xfrm>
            <a:off x="6172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119"/>
          <p:cNvSpPr/>
          <p:nvPr/>
        </p:nvSpPr>
        <p:spPr>
          <a:xfrm>
            <a:off x="6172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40"/>
          <p:cNvSpPr/>
          <p:nvPr/>
        </p:nvSpPr>
        <p:spPr>
          <a:xfrm>
            <a:off x="685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8"/>
          <p:cNvSpPr/>
          <p:nvPr/>
        </p:nvSpPr>
        <p:spPr>
          <a:xfrm>
            <a:off x="685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97"/>
          <p:cNvSpPr/>
          <p:nvPr/>
        </p:nvSpPr>
        <p:spPr>
          <a:xfrm>
            <a:off x="2514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98"/>
          <p:cNvSpPr/>
          <p:nvPr/>
        </p:nvSpPr>
        <p:spPr>
          <a:xfrm>
            <a:off x="4343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00"/>
          <p:cNvSpPr/>
          <p:nvPr/>
        </p:nvSpPr>
        <p:spPr>
          <a:xfrm>
            <a:off x="6172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attl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47920" y="24591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ocument that ended the wa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3520" y="173196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is the Treaty of Paris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14400" y="9144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04920" y="1384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’m the King of Great Britain?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920" y="1885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o is King George III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2357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Convention that voted on Independence?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371600" y="666720"/>
            <a:ext cx="67816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at is the Second Continental Congress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19724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e’re the countries that defended America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0" y="2355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o are Spain, France, Netherlands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5027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person defected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144792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57200" y="155016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 was the slogan used throughout the war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47920" y="784800"/>
            <a:ext cx="6705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is Taxation without Representation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57200" y="2367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’m a person that defended America’s independenc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838080" y="191736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o is a Patriot?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1793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Rode through Boston warning of British invasion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80880" y="1477440"/>
            <a:ext cx="815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Paul Revere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85800" y="220896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 resigned my post while in Philadelphia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jep_dailydoubl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066680" y="2318400"/>
            <a:ext cx="71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William Howe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62120" y="1428480"/>
            <a:ext cx="792468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Benedict Arnold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295280" y="221832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I had the bigger naval fleet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80880" y="230112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Who was the British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0" y="1361160"/>
            <a:ext cx="939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battle happened Christmas night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80880" y="315432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Battle of Trenton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447920" y="1491120"/>
            <a:ext cx="624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battle’s name involves a neighboring landmark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85800" y="685440"/>
            <a:ext cx="754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What is the Battle of Bunker Hill aka Breed’s Hill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43000" y="95544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his was the first military engagement of the war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6087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are the Battles of Lexington and Concord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1523880" y="139536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4"/>
          <p:cNvSpPr/>
          <p:nvPr/>
        </p:nvSpPr>
        <p:spPr>
          <a:xfrm>
            <a:off x="0" y="1926360"/>
            <a:ext cx="8669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Times New Roman"/>
              </a:rPr>
              <a:t>Percentage tax on tea</a:t>
            </a:r>
            <a:endParaRPr b="1" lang="en-US" sz="7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62120" y="190800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hat is 10%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09480" y="242676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ames of colonists who defended the Crown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14400" y="245844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yalist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259776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f the document signed at beginning of war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21873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Declaration of Independence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6:48:29Z</dcterms:created>
  <dc:creator>Grant County High School</dc:creator>
  <dc:description/>
  <dc:language>en-US</dc:language>
  <cp:lastModifiedBy>Michael Saks</cp:lastModifiedBy>
  <dcterms:modified xsi:type="dcterms:W3CDTF">2012-11-28T19:19:36Z</dcterms:modified>
  <cp:revision>83</cp:revision>
  <dc:subject/>
  <dc:title>No Slide Title</dc:title>
</cp:coreProperties>
</file>