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jep_dailydoub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EEDB-E03F-4C9C-B30B-D931AE1F09E8}" type="datetime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8BA4-B7C0-47DC-A94F-CDABF85D47C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FB90-F1A5-4DC8-AD1F-F4499F95284E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E9A4-8C39-4C52-8ED8-6B61AAA3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4552-D737-448A-8A32-704D1507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F57B-A04D-4E06-ABA1-045AFB5E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ADBC-FA17-41D5-95FE-13599933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52C9-A3AD-431E-944D-D4889051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78CE-C763-40CF-A099-AB245385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2C3C-795B-4A93-80C5-D8DA28C3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68BA-F6F7-4DD5-BA07-BA453B84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AF69-450A-4A18-BF4B-62709301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2350-7F8D-4B2E-A7C1-704A3369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72AE-2775-4E35-AE7C-DFCCF7DA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3D39-56E8-4FE4-AA38-E999D03D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1849-A1C6-432B-8479-7C9BD4EA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B62A-D494-42B0-BA6C-43A18F5E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FDFC-1219-4B29-BFD4-A2DC9984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DAD7-8703-4FD6-A442-959426CF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3476-0EA0-46AE-BD59-7E3E3434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B417-969D-488F-9C42-CFA62847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D546-49D5-48B7-9942-BFAA91EA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A11D-63D8-449E-B6EF-72874599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8692-2620-4645-945F-84B86522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7C1-9C78-4760-B6BB-2FA6BD1E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C51E-2638-4A86-8E6C-D896B657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FBB6-3837-4D4B-B9CF-1743A873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CAAC-AFE1-4A46-B61A-36415ED7C84C}" type="slidenum">
              <a:rPr b="1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D2E5-80F6-4716-86D3-292D973ADA10}" type="slidenum">
              <a:rPr b="1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" Target=""/><Relationship Id="rId5" Type="http://schemas.openxmlformats.org/officeDocument/2006/relationships/slide" Target="slide6.xml"/><Relationship Id="rId6" Type="http://schemas.openxmlformats.org/officeDocument/2006/relationships/slide" Target=""/><Relationship Id="rId7" Type="http://schemas.openxmlformats.org/officeDocument/2006/relationships/slide" Target="slide8.xml"/><Relationship Id="rId8" Type="http://schemas.openxmlformats.org/officeDocument/2006/relationships/slide" Target=""/><Relationship Id="rId9" Type="http://schemas.openxmlformats.org/officeDocument/2006/relationships/slide" Target="slide12.xml"/><Relationship Id="rId10" Type="http://schemas.openxmlformats.org/officeDocument/2006/relationships/slide" Target=""/><Relationship Id="rId11" Type="http://schemas.openxmlformats.org/officeDocument/2006/relationships/slide" Target="slide14.xml"/><Relationship Id="rId12" Type="http://schemas.openxmlformats.org/officeDocument/2006/relationships/slide" Target=""/><Relationship Id="rId13" Type="http://schemas.openxmlformats.org/officeDocument/2006/relationships/slide" Target="slide16.xml"/><Relationship Id="rId14" Type="http://schemas.openxmlformats.org/officeDocument/2006/relationships/slide" Target=""/><Relationship Id="rId15" Type="http://schemas.openxmlformats.org/officeDocument/2006/relationships/slide" Target="slide18.xml"/><Relationship Id="rId16" Type="http://schemas.openxmlformats.org/officeDocument/2006/relationships/slide" Target=""/><Relationship Id="rId17" Type="http://schemas.openxmlformats.org/officeDocument/2006/relationships/slide" Target="slide22.xml"/><Relationship Id="rId18" Type="http://schemas.openxmlformats.org/officeDocument/2006/relationships/slide" Target=""/><Relationship Id="rId19" Type="http://schemas.openxmlformats.org/officeDocument/2006/relationships/slide" Target="slide24.xml"/><Relationship Id="rId20" Type="http://schemas.openxmlformats.org/officeDocument/2006/relationships/slide" Target="slide26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ep_dailydoubl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89">
            <a:hlinkClick r:id="rId2" action="ppaction://hlinksldjump"/>
          </p:cNvPr>
          <p:cNvSpPr/>
          <p:nvPr/>
        </p:nvSpPr>
        <p:spPr>
          <a:xfrm>
            <a:off x="685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Garamond"/>
                <a:hlinkClick r:id="rId3" action="ppaction://hlinksldjump"/>
              </a:rPr>
              <a:t>2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90">
            <a:hlinkClick r:id="rId4" action="ppaction://hlinksldjump"/>
          </p:cNvPr>
          <p:cNvSpPr/>
          <p:nvPr/>
        </p:nvSpPr>
        <p:spPr>
          <a:xfrm>
            <a:off x="685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Garamond"/>
                <a:hlinkClick r:id="rId5" action="ppaction://hlinksldjump"/>
              </a:rPr>
              <a:t>3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91">
            <a:hlinkClick r:id="rId6" action="ppaction://hlinksldjump"/>
          </p:cNvPr>
          <p:cNvSpPr/>
          <p:nvPr/>
        </p:nvSpPr>
        <p:spPr>
          <a:xfrm>
            <a:off x="685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Garamond"/>
                <a:hlinkClick r:id="rId7" action="ppaction://hlinksldjump"/>
              </a:rPr>
              <a:t>4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101">
            <a:hlinkClick r:id="rId8" action="ppaction://hlinksldjump"/>
          </p:cNvPr>
          <p:cNvSpPr/>
          <p:nvPr/>
        </p:nvSpPr>
        <p:spPr>
          <a:xfrm>
            <a:off x="2514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Garamond"/>
                <a:hlinkClick r:id="rId9" action="ppaction://hlinksldjump"/>
              </a:rPr>
              <a:t>1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AutoShape 102">
            <a:hlinkClick r:id="rId10" action="ppaction://hlinksldjump"/>
          </p:cNvPr>
          <p:cNvSpPr/>
          <p:nvPr/>
        </p:nvSpPr>
        <p:spPr>
          <a:xfrm>
            <a:off x="2514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Times New Roman"/>
                <a:hlinkClick r:id="rId11" action="ppaction://hlinksldjump"/>
              </a:rPr>
              <a:t>2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AutoShape 103">
            <a:hlinkClick r:id="rId12" action="ppaction://hlinksldjump"/>
          </p:cNvPr>
          <p:cNvSpPr/>
          <p:nvPr/>
        </p:nvSpPr>
        <p:spPr>
          <a:xfrm>
            <a:off x="2514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Garamond"/>
                <a:hlinkClick r:id="rId13" action="ppaction://hlinksldjump"/>
              </a:rPr>
              <a:t>3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AutoShape 104">
            <a:hlinkClick r:id="rId14" action="ppaction://hlinksldjump"/>
          </p:cNvPr>
          <p:cNvSpPr/>
          <p:nvPr/>
        </p:nvSpPr>
        <p:spPr>
          <a:xfrm>
            <a:off x="2514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Times New Roman"/>
                <a:hlinkClick r:id="rId15" action="ppaction://hlinksldjump"/>
              </a:rPr>
              <a:t>4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AutoShape 106">
            <a:hlinkClick r:id="rId16" action="ppaction://hlinksldjump"/>
          </p:cNvPr>
          <p:cNvSpPr/>
          <p:nvPr/>
        </p:nvSpPr>
        <p:spPr>
          <a:xfrm>
            <a:off x="4343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Times New Roman"/>
                <a:hlinkClick r:id="rId17" action="ppaction://hlinksldjump"/>
              </a:rPr>
              <a:t>1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107">
            <a:hlinkClick r:id="rId18" action="ppaction://hlinksldjump"/>
          </p:cNvPr>
          <p:cNvSpPr/>
          <p:nvPr/>
        </p:nvSpPr>
        <p:spPr>
          <a:xfrm>
            <a:off x="4343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Times New Roman"/>
                <a:hlinkClick r:id="rId19" action="ppaction://hlinksldjump"/>
              </a:rPr>
              <a:t>2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108"/>
          <p:cNvSpPr/>
          <p:nvPr/>
        </p:nvSpPr>
        <p:spPr>
          <a:xfrm>
            <a:off x="4343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Times New Roman"/>
                <a:hlinkClick r:id="rId20" action="ppaction://hlinksldjump"/>
              </a:rPr>
              <a:t>3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AutoShape 109"/>
          <p:cNvSpPr/>
          <p:nvPr/>
        </p:nvSpPr>
        <p:spPr>
          <a:xfrm>
            <a:off x="4343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116"/>
          <p:cNvSpPr/>
          <p:nvPr/>
        </p:nvSpPr>
        <p:spPr>
          <a:xfrm>
            <a:off x="6172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AutoShape 117"/>
          <p:cNvSpPr/>
          <p:nvPr/>
        </p:nvSpPr>
        <p:spPr>
          <a:xfrm>
            <a:off x="6172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AutoShape 118"/>
          <p:cNvSpPr/>
          <p:nvPr/>
        </p:nvSpPr>
        <p:spPr>
          <a:xfrm>
            <a:off x="6172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AutoShape 119"/>
          <p:cNvSpPr/>
          <p:nvPr/>
        </p:nvSpPr>
        <p:spPr>
          <a:xfrm>
            <a:off x="6172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AutoShape 40"/>
          <p:cNvSpPr/>
          <p:nvPr/>
        </p:nvSpPr>
        <p:spPr>
          <a:xfrm>
            <a:off x="685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1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58"/>
          <p:cNvSpPr/>
          <p:nvPr/>
        </p:nvSpPr>
        <p:spPr>
          <a:xfrm>
            <a:off x="685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932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sc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97"/>
          <p:cNvSpPr/>
          <p:nvPr/>
        </p:nvSpPr>
        <p:spPr>
          <a:xfrm>
            <a:off x="2514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932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sc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98"/>
          <p:cNvSpPr/>
          <p:nvPr/>
        </p:nvSpPr>
        <p:spPr>
          <a:xfrm>
            <a:off x="4343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932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sc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00"/>
          <p:cNvSpPr/>
          <p:nvPr/>
        </p:nvSpPr>
        <p:spPr>
          <a:xfrm>
            <a:off x="6172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attle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447920" y="245916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ocument that ended the war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33520" y="173196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What is the Treaty of Paris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914400" y="9144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304920" y="13842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I’m the King of Great Britain?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04920" y="18856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o is King George III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0" y="2357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Convention that voted on Independence?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1371600" y="666720"/>
            <a:ext cx="67816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What is the Second Continental Congress?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19724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We’re the countries that defended America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0" y="23551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Who are Spain, France, Netherlands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62120" y="25027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person defected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600200" y="1447920"/>
            <a:ext cx="624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457200" y="155016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 was the slogan used throughout the war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447920" y="784800"/>
            <a:ext cx="6705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What is Taxation without Representation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457200" y="236700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I’m a person that defended America’s independence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838080" y="191736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o is a Patriot?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0" y="17938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Rode through Boston warning of British invasion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80880" y="1477440"/>
            <a:ext cx="815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Who is Paul Revere?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685800" y="220896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I resigned my post while in Philadelphia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jep_dailydoubl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1066680" y="2318400"/>
            <a:ext cx="7162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Who is William Howe?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762120" y="1428480"/>
            <a:ext cx="792468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Who is Benedict Arnold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295280" y="2218320"/>
            <a:ext cx="6248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I had the bigger naval fleet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380880" y="2301120"/>
            <a:ext cx="8382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Who was the British</a:t>
            </a:r>
            <a:endParaRPr b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0" y="1361160"/>
            <a:ext cx="9391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is battle happened Christmas night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380880" y="315432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Battle of Trenton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1447920" y="1491120"/>
            <a:ext cx="6248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is battle’s name involves a neighboring landmark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85800" y="685440"/>
            <a:ext cx="7543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What is the Battle of Bunker Hill aka Breed’s Hill</a:t>
            </a:r>
            <a:endParaRPr b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1143000" y="95544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This was the first military engagement of the war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0" y="6087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What are the Battles of Lexington and Concord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Object 13"/>
          <p:cNvGraphicFramePr/>
          <p:nvPr/>
        </p:nvGraphicFramePr>
        <p:xfrm>
          <a:off x="1523880" y="1395360"/>
          <a:ext cx="6097680" cy="40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536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14"/>
          <p:cNvSpPr/>
          <p:nvPr/>
        </p:nvSpPr>
        <p:spPr>
          <a:xfrm>
            <a:off x="0" y="1926360"/>
            <a:ext cx="8669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Times New Roman"/>
              </a:rPr>
              <a:t>Percentage tax on tea</a:t>
            </a:r>
            <a:endParaRPr b="1" lang="en-US" sz="7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762120" y="1908000"/>
            <a:ext cx="79246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hat is 10%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609480" y="2426760"/>
            <a:ext cx="769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ames of colonists who defended the Crown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914400" y="245844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yalists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04920" y="259776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of the document signed at beginning of war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57200" y="218736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Declaration of Independence?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6:48:29Z</dcterms:created>
  <dc:creator>Grant County High School</dc:creator>
  <dc:description/>
  <dc:language>en-US</dc:language>
  <cp:lastModifiedBy>Michael Saks</cp:lastModifiedBy>
  <dcterms:modified xsi:type="dcterms:W3CDTF">2012-11-28T19:19:36Z</dcterms:modified>
  <cp:revision>83</cp:revision>
  <dc:subject/>
  <dc:title>No Slide Title</dc:title>
</cp:coreProperties>
</file>